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1144-6BB0-4687-9072-BAEE5C449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 to module 5 of our online training to support the Essential Standards that will be implemented during the 2012-2013 school yea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2648-30A4-4956-99CC-ABDD4AC85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73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2D76-0FD7-4310-8003-8CC2A682B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have a CMAPP account?  If not, check out the following website to learn how to get one: http://cmapp.wcpss.net/index/fa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, all WL pacing guides are located on CMAPP for middle and high school.  The Learning and Teaching Guides are the pacing guides in much, much more detail.  L &amp; T Guides are being developed for Spanish I and Spanish II during the 2011-2012 school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38DA-538D-43A9-AA88-321026F72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have an opportunity  in the “Do” section of this module to review a pacing guide and consider the new clarifying objectives that apply to our local curricul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216A-6F16-4388-9968-5C0A492E7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C81C-2A11-4FA1-850A-03137A97C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3842-9993-4BB5-8A51-536A6E4BB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image of the Balsamic Reduction – what is left after boiling down is the absolute essence which is most powerfu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7EF8-959A-42F4-AE1F-F34F86F30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 briefly on how the standard course of study has been “boiled down” in your area into the new str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53BD-01CB-419B-AD9D-D83108ECF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5E3F-FEE9-490B-A4B0-954136114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3E36-C2AA-484F-BB9F-25F628BE9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B993-0E97-4E24-8CF9-F1C3425C4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C395-04FE-489F-BC1C-AD128F740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4161-2DF4-4FB3-BD79-5ECA0E19B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B62-A4FC-414A-B508-506211E1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F3D-5635-43C1-975A-69D29C49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F32-62AD-4610-9D58-5AE00D8B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CAB-34DB-494C-8493-C44D4E13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2EA1-2510-43E4-A4E6-7ECE24A5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B52B-9CE6-4449-87ED-D0A3E63F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539B-87AA-425D-A539-736FAB9E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F228-C877-4DE7-B40C-BD9E3674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0D86-8856-4CAD-94CC-AC26054C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5218-9533-444B-AD00-7DFFAC72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C26A-B0EA-4AA8-A96E-B11EBDE6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83E-1588-44CD-BC01-2B07A6F3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BD00-D0AC-47B8-B9AC-24E41F8C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27A0-3569-4BA3-AAE4-60E1772C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69A8-1FEA-4C54-B902-D00CEA47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5178-F4CD-4F20-B3C5-80242A10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B219-9B45-4803-8297-C46FD9CC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F9606-29D9-4922-856E-0141D161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EA2F7-FBF1-4526-909B-CF283AD1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C800F-FD93-4F8D-95BF-A281915D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60D1-508E-4516-82CD-1E4AF73D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9E6BA-DC27-42A6-8B54-72A5FBF0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C07-E827-4340-B025-40040737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9F8F-B302-4541-B6D1-1CB999C0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331FB-DC8D-4EF3-AAE4-EE6D7183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33521-2E00-40BA-9EF0-5D6A2524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CB66-72A7-4F0F-8336-8F4C2C78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78F19-0C8E-404F-8DCE-E106EBE1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77EE7-F4F2-43DA-B3BE-2D8007FA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AE6BD-45B4-47A9-BB33-D753F09B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F893C-29A5-4B5F-8121-8182F97A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5C1CB-202D-40D8-82EF-1F19A3A7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ED947-1FD9-48C1-99CE-A602EFBA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A3B-59DA-4852-A4DD-17C8CA54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01D13-F4F5-403E-8261-2187B4A5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A9F50-1BF3-404C-BED4-489A61BE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90CB8-6D0D-4B60-9739-20938C91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0E32F-C02A-4A6C-9735-F7ACC443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B06B6-0197-4393-AA39-87465B74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0FB88-43F4-4396-B284-76BBB9EF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31EBF-1648-4829-847A-9D870817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A775-7634-4BE4-99A5-B750C975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B9BD8-F5BC-4C3D-83EA-75011697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B917A-E065-4AE8-87BB-AA6BF7BD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159-E336-4198-8886-B45A4732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FBB11-72D3-4E4D-B6C8-AA557EC4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5292F-45CE-4254-A59D-B160B32C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888B5-ECD3-48CC-9414-09B3DB0D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EC5AA-E61A-43D1-B5B6-FACA133E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AFF04-46DD-46C7-98CF-1499DBAB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0E238-0A07-4B4E-8379-8AC88688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668BC-7D6C-4264-BD33-2C3356C0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4466F-4B98-4D03-9635-A59822FE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F8F5C-0D04-410E-82D7-2301569B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93A0B-DC08-4B6B-B932-EDA02172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C56-E6EE-4895-A3C3-A7CE9D63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B9BEF-6876-4124-A729-A750FE07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55624-9E09-4D92-A630-E00032E2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AD7E9-3718-412D-AE12-86053215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74D55-DE1F-47CF-89E8-E9AB7857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A1B3A-421F-4438-846D-858F74DA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72E68-8D75-4A02-A09B-F0AB7AC6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1A3D4-6A7F-4546-A780-DADE3A41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1A35B-99F3-4E0F-8FEB-531150C9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F3E06-6FA4-4AF0-B2B4-DD6DF9CE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D43A4-BF7B-43DB-98DD-ADBD0E4A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88E-9E45-4E1E-AB95-CFF582D1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C112D-0314-4FB7-B6CF-571E4D14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D6A23-8691-4652-AFD4-51028364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EC33E-E2B5-4F77-BA28-1FEED52D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31630-43DA-46C9-B65C-E37B8386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7B743-7BB7-4F11-B68D-C56CCC19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BDC2A-9B0F-4A64-BBB6-36894E40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54EDA-D48C-4792-9C89-A93EDE72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7E2E9-F7AD-442E-AB9A-0BC5AEE6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1EF6B-30B1-4174-BC1C-FD0AB5DE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43CB7-A0D4-44D4-925E-F37D1A58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EE9-8188-4EBA-AE3D-58C6E3E0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6774C-66DB-49E2-99DA-39BB7650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4E28F-FE30-41A1-B051-BC47F399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71234-7CA6-4B3C-B10D-755580B8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51301-2A28-4E3E-9503-0FFE1F71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DB04F-FA03-4FF0-9CA0-A69C30FF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3DE59-3465-451C-9C40-55D07BA2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0BF13-BFCE-4108-AF2E-37BD2542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976E4-31EA-401B-A816-414DA2C6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01ECA-1FEC-455B-896A-49EB8B6F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B3ECD-0DD8-4336-AB6A-0FD5AD19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65D-CA23-4D01-8EA7-EB7933D2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EA8B8-A5A1-4C1E-822C-4DCA5EB4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9652F-FCCB-4702-9EEF-C7485DEE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15CCE-72A5-4728-8F23-64258F5E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19A83-76BF-4FC0-A69F-84C458AB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AE6E9-50CC-498F-BFA4-5C768E7F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C6F66-F986-4DA6-8D74-68619E39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DBDED-BDD1-4FC1-88B1-4DB3F73A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26B6-A594-49E4-9E04-5A50D3F2B3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7782-7A69-4A8F-AB7E-DBDF6B8CF2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845E-31A6-4B72-AE3D-CEA7E7564F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828B-338E-4490-9AFC-2722F076B9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6344-EF82-4B17-A5DF-2FA2AE8037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D1FA-35BA-4A21-AB21-682830F2C2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6DCC-701D-4E7E-B734-B7F9806658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A8B6-2F2C-4204-AC72-06B5E06B30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682560" y="987480"/>
            <a:ext cx="8253360" cy="260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Module 5—Aligning Instruction &amp; Lesson Desig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380880" y="1371600"/>
          <a:ext cx="830592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91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04 Standard Course of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10 WL Essential Stand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mpetency Goal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nne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The learner will acquire, reinforce, and further his/her knowledge of other disciplines through the foreign languag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nnections to Other Disciplines (COD) Str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Studying a world language involves making connections with other academic disciplines, formally and informally.  Within the communication skills, the language arts of reading, writing, speaking, and listening are utiliz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43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2" descr=""/>
          <p:cNvPicPr/>
          <p:nvPr/>
        </p:nvPicPr>
        <p:blipFill>
          <a:blip r:embed="rId1"/>
          <a:stretch/>
        </p:blipFill>
        <p:spPr>
          <a:xfrm>
            <a:off x="444600" y="274680"/>
            <a:ext cx="8254800" cy="8841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533520" y="1447920"/>
            <a:ext cx="807696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80880" y="1397160"/>
          <a:ext cx="8382240" cy="500364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04 Standard Course of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10 WL Essential Stand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mpetency Goal #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mun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The learner will use language and/or demonstrate cultural knowledge and understanding within and beyond the school setting for personal, educational, and professional growth and enrichme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mmunities (CMT) Str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Students preparing for success in the 2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s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Century need to access knowledge and information from other communities and use that information to function well with people from diverse backgroun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57200" y="137160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new World Language Essential Standards is the state curriculum mandated by the North Carolina Department of Public Instru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district develops a local curriculum that further elaborates on the Essential Standards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local curriculum and supporting documents are housed in CMAPP (Curriculum Management Applica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ur current pacing guides will be revised to include the new Essential Standards in place of the 2004 NC Standard Course of Stud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example: Level I 2004 SCo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1.04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Share likes and dislikes, feelings and emotions with each other orally and in writin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PLACED WITH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NM.CLL.1.1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—Use memorized words and phrases to exchange information on familiar topics, such as likes, dislikes, emotions, everyday activities, and immediate surroundings.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905120"/>
            <a:ext cx="82296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s you plan your lessons this year, you may wish to consider including both the current SCoS objectives and one or more COs (Clarifying Objectives) 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1112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inue your exploration of how the new Essential Standards replace the current Standard Course of Study by completing the “Do” portion of this modul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earning Outcome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rticipants will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actice re-aligning existing resources with the new Essential Standar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velop or revise a lesson plan based on one or more clarifying objectiv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255600" y="182520"/>
            <a:ext cx="8437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52352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rts Education Standard Course of Study contained 8 or 9 competency goal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se goals are now included in the Essential Standards and the three strand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Comparing Strand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Group 187" descr=""/>
          <p:cNvPicPr/>
          <p:nvPr/>
        </p:nvPicPr>
        <p:blipFill>
          <a:blip r:embed="rId1"/>
          <a:stretch/>
        </p:blipFill>
        <p:spPr>
          <a:xfrm>
            <a:off x="384120" y="1225440"/>
            <a:ext cx="75405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98440" y="298440"/>
            <a:ext cx="85471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"/>
          <p:cNvGraphicFramePr/>
          <p:nvPr/>
        </p:nvGraphicFramePr>
        <p:xfrm>
          <a:off x="228600" y="1600200"/>
          <a:ext cx="8686800" cy="420696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04 Standard Course of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10 WL Essential Stand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3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mpetency Goal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rpersonal Commun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The learner will engage in conversation and exchange information and opinions orally and in writing in the target languag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Essential Standard #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Use the language to engage in interpersonal communic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457200" y="1295280"/>
          <a:ext cx="8229600" cy="483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04 Standard Course of Stu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10 WL Essential Standa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5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mpetency Goal #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rpretive Commun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The learner will understand and interpret written and spoken language on a variety of topics in the target languag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Essential Standard #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Understand words and concepts presented in the languag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42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457200" y="14479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04 Standard Course of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10 WL Essential Stand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mpetency Goal #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esentational Commun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The learner will present information, concepts, and ideas to an audience of listeners or readers on a variety of topics in the target languag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Essential Standard #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Use the language to present information to an audie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430" name="Title 2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457200" y="1447920"/>
          <a:ext cx="8229600" cy="4572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04 Standard Course of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10 WL Essential Stand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mpetency Goal #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ul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The learner will gain knowledge and demonstrate understanding of the relationship among practices, products, and perspectives, of cultures other than his/her ow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Essential Standard #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are the students’ culture and the target cultu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43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457200" y="1447920"/>
          <a:ext cx="8229600" cy="4572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04 Standard Course of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10 WL Essential Stand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mpetency Goal #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ari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The learner will develop insight into the nature of language and culture by comparing his/her own language(s) and culture(s) to othe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nnections to Language &amp; Literacy (CLL) Str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The world language being studied, helps students develop a greater understanding and insight into the nature of language and culture, including their native or first language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450720" y="365040"/>
            <a:ext cx="824256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2:29:00Z</dcterms:created>
  <dc:creator>elizabeth_droessler</dc:creator>
  <dc:description/>
  <dc:language>en-US</dc:language>
  <cp:lastModifiedBy>elizabeth_droessler</cp:lastModifiedBy>
  <dcterms:modified xsi:type="dcterms:W3CDTF">2012-03-07T16:53:37Z</dcterms:modified>
  <cp:revision>82</cp:revision>
  <dc:subject/>
  <dc:title>Common Core  Essential Standards  in the Arts</dc:title>
</cp:coreProperties>
</file>